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8E7F6-3FB4-439B-A826-D36D54DD6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FE757-27F5-4FEB-9B12-9DC2621A1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612D2-D725-4B74-A5C2-2DC3DDFD8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24BB8-BEB1-475A-90B4-8093D32C1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A1F95-C470-4910-9BB4-8F63FCEEB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B7776-5428-4019-BF63-0049A97EF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C4665-B2D9-4E63-83CA-519541BA6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77666-CE3E-44ED-A6F4-C5A675539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14BD2-BB2B-4066-B6C3-CE0F8D61F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A3267-4DCD-428A-AA59-4D8CBB31B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823C3-2FE4-4B72-8EF3-2F900F008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3AF4C-9732-417F-9187-4C5D3032D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ABC60-F473-4D06-84A0-B5A6F7F5C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8CEA2-0F09-43F6-AA1C-35446AA5E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3E4DE-80F9-4DC9-8FB1-BC5AD0A64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CBD5F-7565-430E-B048-ADEE6238D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BFE4A-A009-4178-B745-E1E33C6E2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B8CEA-177F-43C9-AED1-7FB544F00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1E19A-CFCA-458C-BD69-4D0072E18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20ACB-1EAC-43BE-98B9-D3DC4D5EB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CE624-605B-457E-ACDC-85823D1F3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76B22-FAC0-4019-8D62-A3B54BF8E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EC3AC-A15B-435E-8B67-737C9FB9A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FC85E-840C-40AD-964A-C403EF3F0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F55A2-A82A-480B-8AEB-99BFCBA892F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F0A27-2E1D-45D1-B7F2-9B9F14DAB43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3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Тарский муниципальный район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971640" y="4723920"/>
            <a:ext cx="67816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33"/>
                </a:solidFill>
                <a:latin typeface="Tahoma"/>
              </a:rPr>
              <a:t>ПРОЕКТ БЮДЖЕТ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33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66ff33"/>
                </a:solidFill>
                <a:latin typeface="Tahoma"/>
              </a:rPr>
              <a:t>2013-2015 гг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Национальная экономика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755640" y="1484280"/>
          <a:ext cx="7775640" cy="1674720"/>
        </p:xfrm>
        <a:graphic>
          <a:graphicData uri="http://schemas.openxmlformats.org/drawingml/2006/table">
            <a:tbl>
              <a:tblPr/>
              <a:tblGrid>
                <a:gridCol w="3954600"/>
                <a:gridCol w="954000"/>
                <a:gridCol w="954000"/>
                <a:gridCol w="957240"/>
                <a:gridCol w="955800"/>
              </a:tblGrid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 Cyr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 Cyr"/>
                        </a:rPr>
                        <a:t>2012 г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 Cyr"/>
                        </a:rPr>
                        <a:t>2013 г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 Cyr"/>
                        </a:rPr>
                        <a:t>2014 г.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 Cyr"/>
                        </a:rPr>
                        <a:t>2015 г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 Cyr"/>
                        </a:rPr>
                        <a:t>Национальная экономика (тыс. руб.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 Cyr"/>
                        </a:rPr>
                        <a:t>7391,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 Cyr"/>
                        </a:rPr>
                        <a:t>9805,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 Cyr"/>
                        </a:rPr>
                        <a:t>4919,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 Cyr"/>
                        </a:rPr>
                        <a:t>3840,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 Cyr"/>
                        </a:rPr>
                        <a:t>Доля в общем объеме расходов, 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 Cyr"/>
                        </a:rPr>
                        <a:t>2,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 Cyr"/>
                        </a:rPr>
                        <a:t>3,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 Cyr"/>
                        </a:rPr>
                        <a:t>1,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 Cyr"/>
                        </a:rPr>
                        <a:t>1,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 Cyr"/>
                        </a:rPr>
                        <a:t>Прирост к предыдущему году, тыс. руб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 Cyr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2413,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 Cyr"/>
                        </a:rPr>
                        <a:t>-4886,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 Cyr"/>
                        </a:rPr>
                        <a:t>-1078,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 Cyr"/>
                        </a:rPr>
                        <a:t>Прирост к предыдущему году, 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 Cyr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32,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 Cyr"/>
                        </a:rPr>
                        <a:t>-49,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 Cyr"/>
                        </a:rPr>
                        <a:t>-21,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7" name=""/>
          <p:cNvGraphicFramePr/>
          <p:nvPr/>
        </p:nvGraphicFramePr>
        <p:xfrm>
          <a:off x="539640" y="3284640"/>
          <a:ext cx="8136000" cy="35733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9640" y="3284640"/>
                    <a:ext cx="8136000" cy="357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Жилищно-коммунальное хозяйство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7200" y="1981080"/>
          <a:ext cx="8507160" cy="4132440"/>
        </p:xfrm>
        <a:graphic>
          <a:graphicData uri="http://schemas.openxmlformats.org/drawingml/2006/table">
            <a:tbl>
              <a:tblPr/>
              <a:tblGrid>
                <a:gridCol w="4626000"/>
                <a:gridCol w="1042200"/>
                <a:gridCol w="996120"/>
                <a:gridCol w="920880"/>
                <a:gridCol w="921960"/>
              </a:tblGrid>
              <a:tr h="822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2012 г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2013 г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2014 г.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2015 г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1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Жилищно-коммунальное хозяйство (тыс.руб.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600,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550,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50,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50,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Доля в общем объеме расходов, 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0,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0,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0,0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0,0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Прирост к предыдущему году, тыс. руб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-50,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-500,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Прирост к предыдущему году, 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-8,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-90,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5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Образование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68360" y="981000"/>
          <a:ext cx="8496360" cy="1674720"/>
        </p:xfrm>
        <a:graphic>
          <a:graphicData uri="http://schemas.openxmlformats.org/drawingml/2006/table">
            <a:tbl>
              <a:tblPr/>
              <a:tblGrid>
                <a:gridCol w="4054320"/>
                <a:gridCol w="1076400"/>
                <a:gridCol w="1120680"/>
                <a:gridCol w="1122480"/>
                <a:gridCol w="1122480"/>
              </a:tblGrid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 Cyr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 Cyr"/>
                        </a:rPr>
                        <a:t>2012 г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 Cyr"/>
                        </a:rPr>
                        <a:t>2013 г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 Cyr"/>
                        </a:rPr>
                        <a:t>2014 г.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 Cyr"/>
                        </a:rPr>
                        <a:t>2015 г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 Cyr"/>
                        </a:rPr>
                        <a:t>Образование (тыс. руб.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 Cyr"/>
                        </a:rPr>
                        <a:t>182719,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 Cyr"/>
                        </a:rPr>
                        <a:t>191664,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 Cyr"/>
                        </a:rPr>
                        <a:t>198868,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 Cyr"/>
                        </a:rPr>
                        <a:t>189754,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 Cyr"/>
                        </a:rPr>
                        <a:t>Доля в общем объеме расходов, 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 Cyr"/>
                        </a:rPr>
                        <a:t>67,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 Cyr"/>
                        </a:rPr>
                        <a:t>65,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 Cyr"/>
                        </a:rPr>
                        <a:t>68,7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 Cyr"/>
                        </a:rPr>
                        <a:t>70,0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 Cyr"/>
                        </a:rPr>
                        <a:t>Прирост к предыдущему году, тыс. руб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 Cyr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 Cyr"/>
                        </a:rPr>
                        <a:t>8944,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 Cyr"/>
                        </a:rPr>
                        <a:t>7204,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 Cyr"/>
                        </a:rPr>
                        <a:t>-9114,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 Cyr"/>
                        </a:rPr>
                        <a:t>Прирост к предыдущему году, 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 Cyr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 Cyr"/>
                        </a:rPr>
                        <a:t>4,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3,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 Cyr"/>
                        </a:rPr>
                        <a:t>-4,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3" name=""/>
          <p:cNvGraphicFramePr/>
          <p:nvPr/>
        </p:nvGraphicFramePr>
        <p:xfrm>
          <a:off x="1776240" y="3139920"/>
          <a:ext cx="6054840" cy="40690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76240" y="3139920"/>
                    <a:ext cx="6054840" cy="406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Культура, кинематография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539640" y="907920"/>
          <a:ext cx="8280360" cy="2095560"/>
        </p:xfrm>
        <a:graphic>
          <a:graphicData uri="http://schemas.openxmlformats.org/drawingml/2006/table">
            <a:tbl>
              <a:tblPr/>
              <a:tblGrid>
                <a:gridCol w="4113360"/>
                <a:gridCol w="992160"/>
                <a:gridCol w="1096920"/>
                <a:gridCol w="1039680"/>
                <a:gridCol w="1038240"/>
              </a:tblGrid>
              <a:tr h="5112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 Cyr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 Cyr"/>
                        </a:rPr>
                        <a:t>2012 г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 Cyr"/>
                        </a:rPr>
                        <a:t>2013 г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 Cyr"/>
                        </a:rPr>
                        <a:t>2014 г.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 Cyr"/>
                        </a:rPr>
                        <a:t>2015 г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 Cyr"/>
                        </a:rPr>
                        <a:t>Культура, кинематография (тыс. руб.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 Cyr"/>
                        </a:rPr>
                        <a:t>29368,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 Cyr"/>
                        </a:rPr>
                        <a:t>36517,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 Cyr"/>
                        </a:rPr>
                        <a:t>34496,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 Cyr"/>
                        </a:rPr>
                        <a:t>31521,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 Cyr"/>
                        </a:rPr>
                        <a:t>Доля в общем объеме расходов, 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 Cyr"/>
                        </a:rPr>
                        <a:t>10,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 Cyr"/>
                        </a:rPr>
                        <a:t>12,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 Cyr"/>
                        </a:rPr>
                        <a:t>11,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 Cyr"/>
                        </a:rPr>
                        <a:t>11,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12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 Cyr"/>
                        </a:rPr>
                        <a:t>Прирост к предыдущему году, тыс. руб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 Cyr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 Cyr"/>
                        </a:rPr>
                        <a:t>7149,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 Cyr"/>
                        </a:rPr>
                        <a:t>-2021,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 Cyr"/>
                        </a:rPr>
                        <a:t>-2975,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 Cyr"/>
                        </a:rPr>
                        <a:t>Прирост к предыдущему году, 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 Cyr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 Cyr"/>
                        </a:rPr>
                        <a:t>24,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 Cyr"/>
                        </a:rPr>
                        <a:t>-2,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 Cyr"/>
                        </a:rPr>
                        <a:t>-8,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7" name=""/>
          <p:cNvGraphicFramePr/>
          <p:nvPr/>
        </p:nvGraphicFramePr>
        <p:xfrm>
          <a:off x="2087640" y="3071880"/>
          <a:ext cx="5545080" cy="33670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087640" y="3071880"/>
                    <a:ext cx="5545080" cy="336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6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Социальная политика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324000" y="1052640"/>
          <a:ext cx="8435880" cy="1674720"/>
        </p:xfrm>
        <a:graphic>
          <a:graphicData uri="http://schemas.openxmlformats.org/drawingml/2006/table">
            <a:tbl>
              <a:tblPr/>
              <a:tblGrid>
                <a:gridCol w="4238640"/>
                <a:gridCol w="1020600"/>
                <a:gridCol w="1130400"/>
                <a:gridCol w="1022400"/>
                <a:gridCol w="1023840"/>
              </a:tblGrid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 Cyr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 Cyr"/>
                        </a:rPr>
                        <a:t>2012 г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 Cyr"/>
                        </a:rPr>
                        <a:t>2013 г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 Cyr"/>
                        </a:rPr>
                        <a:t>2014 г.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 Cyr"/>
                        </a:rPr>
                        <a:t>2015 г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 Cyr"/>
                        </a:rPr>
                        <a:t>Социальная политика (тыс. руб.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 Cyr"/>
                        </a:rPr>
                        <a:t>4216,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 Cyr"/>
                        </a:rPr>
                        <a:t>4690,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 Cyr"/>
                        </a:rPr>
                        <a:t>4690,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 Cyr"/>
                        </a:rPr>
                        <a:t>1019,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 Cyr"/>
                        </a:rPr>
                        <a:t>Доля в общем объеме расходов, 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 Cyr"/>
                        </a:rPr>
                        <a:t>1,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 Cyr"/>
                        </a:rPr>
                        <a:t>1,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 Cyr"/>
                        </a:rPr>
                        <a:t>1,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 Cyr"/>
                        </a:rPr>
                        <a:t>0,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 Cyr"/>
                        </a:rPr>
                        <a:t>Прирост к предыдущему году, тыс. руб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 Cyr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 Cyr"/>
                        </a:rPr>
                        <a:t>474,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 Cyr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 Cyr"/>
                        </a:rPr>
                        <a:t>-3671,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 Cyr"/>
                        </a:rPr>
                        <a:t>Прирост к предыдущему году, 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 Cyr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 Cyr"/>
                        </a:rPr>
                        <a:t>11,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 Cyr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 Cyr"/>
                        </a:rPr>
                        <a:t>-78,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1" name=""/>
          <p:cNvGraphicFramePr/>
          <p:nvPr/>
        </p:nvGraphicFramePr>
        <p:xfrm>
          <a:off x="1403280" y="2781360"/>
          <a:ext cx="6913800" cy="37670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03280" y="2781360"/>
                    <a:ext cx="6913800" cy="376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Физическая культура и спорт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0" y="1844640"/>
          <a:ext cx="8892720" cy="4113720"/>
        </p:xfrm>
        <a:graphic>
          <a:graphicData uri="http://schemas.openxmlformats.org/drawingml/2006/table">
            <a:tbl>
              <a:tblPr/>
              <a:tblGrid>
                <a:gridCol w="4468680"/>
                <a:gridCol w="1078200"/>
                <a:gridCol w="1189800"/>
                <a:gridCol w="1078200"/>
                <a:gridCol w="1077840"/>
              </a:tblGrid>
              <a:tr h="822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 Cyr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 Cyr"/>
                        </a:rPr>
                        <a:t>2012 г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 Cyr"/>
                        </a:rPr>
                        <a:t>2013 г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 Cyr"/>
                        </a:rPr>
                        <a:t>2014 г.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 Cyr"/>
                        </a:rPr>
                        <a:t>2015 г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9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 Cyr"/>
                        </a:rPr>
                        <a:t>Физическая культура и спорт (тыс. руб.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 Cyr"/>
                        </a:rPr>
                        <a:t>905,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 Cyr"/>
                        </a:rPr>
                        <a:t>1500,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 Cyr"/>
                        </a:rPr>
                        <a:t>1000,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 Cyr"/>
                        </a:rPr>
                        <a:t>1000,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 Cyr"/>
                        </a:rPr>
                        <a:t>Доля в общем объеме расходов, 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 Cyr"/>
                        </a:rPr>
                        <a:t>0,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 Cyr"/>
                        </a:rPr>
                        <a:t>0,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 Cyr"/>
                        </a:rPr>
                        <a:t>0,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 Cyr"/>
                        </a:rPr>
                        <a:t>0,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9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 Cyr"/>
                        </a:rPr>
                        <a:t>Прирост к предыдущему году, тыс. руб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 Cyr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 Cyr"/>
                        </a:rPr>
                        <a:t>595,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 Cyr"/>
                        </a:rPr>
                        <a:t>-5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 Cyr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 Cyr"/>
                        </a:rPr>
                        <a:t>Прирост к предыдущему году, 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 Cyr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65,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33,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 Cyr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Обслуживание государственного и муниципального долга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179280" y="1981080"/>
          <a:ext cx="8785080" cy="4113720"/>
        </p:xfrm>
        <a:graphic>
          <a:graphicData uri="http://schemas.openxmlformats.org/drawingml/2006/table">
            <a:tbl>
              <a:tblPr/>
              <a:tblGrid>
                <a:gridCol w="4414320"/>
                <a:gridCol w="1065240"/>
                <a:gridCol w="1175400"/>
                <a:gridCol w="1065240"/>
                <a:gridCol w="1064880"/>
              </a:tblGrid>
              <a:tr h="822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 Cyr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 Cyr"/>
                        </a:rPr>
                        <a:t>2012 г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 Cyr"/>
                        </a:rPr>
                        <a:t>2013 г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 Cyr"/>
                        </a:rPr>
                        <a:t>2014 г.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 Cyr"/>
                        </a:rPr>
                        <a:t>2015 г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9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 Cyr"/>
                        </a:rPr>
                        <a:t>Общий объем (тыс. руб.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 Cyr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 Cyr"/>
                        </a:rPr>
                        <a:t>508,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 Cyr"/>
                        </a:rPr>
                        <a:t>277,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 Cyr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 Cyr"/>
                        </a:rPr>
                        <a:t>Доля в общем объеме расходов, 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 Cyr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 Cyr"/>
                        </a:rPr>
                        <a:t>0,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 Cyr"/>
                        </a:rPr>
                        <a:t>0,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 Cyr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9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 Cyr"/>
                        </a:rPr>
                        <a:t>Прирост к предыдущему году, тыс. руб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 Cyr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 Cyr"/>
                        </a:rPr>
                        <a:t>508,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 Cyr"/>
                        </a:rPr>
                        <a:t>-230,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 Cyr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 Cyr"/>
                        </a:rPr>
                        <a:t>Прирост к предыдущему году, 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 Cyr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 Cyr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 Cyr"/>
                        </a:rPr>
                        <a:t>-45,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 Cyr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Межбюджетные трансферты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179280" y="1981080"/>
          <a:ext cx="8785080" cy="4113720"/>
        </p:xfrm>
        <a:graphic>
          <a:graphicData uri="http://schemas.openxmlformats.org/drawingml/2006/table">
            <a:tbl>
              <a:tblPr/>
              <a:tblGrid>
                <a:gridCol w="4414320"/>
                <a:gridCol w="1065240"/>
                <a:gridCol w="1175400"/>
                <a:gridCol w="1065240"/>
                <a:gridCol w="1064880"/>
              </a:tblGrid>
              <a:tr h="822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 Cyr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 Cyr"/>
                        </a:rPr>
                        <a:t>2012 г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 Cyr"/>
                        </a:rPr>
                        <a:t>2013 г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 Cyr"/>
                        </a:rPr>
                        <a:t>2014 г.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 Cyr"/>
                        </a:rPr>
                        <a:t>2015 г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9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 Cyr"/>
                        </a:rPr>
                        <a:t>Общий объем (тыс. руб.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 Cyr"/>
                        </a:rPr>
                        <a:t>1620,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 Cyr"/>
                        </a:rPr>
                        <a:t>409,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 Cyr"/>
                        </a:rPr>
                        <a:t>307,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 Cyr"/>
                        </a:rPr>
                        <a:t>107,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 Cyr"/>
                        </a:rPr>
                        <a:t>Доля в общем объеме расходов, 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 Cyr"/>
                        </a:rPr>
                        <a:t>0,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 Cyr"/>
                        </a:rPr>
                        <a:t>0,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 Cyr"/>
                        </a:rPr>
                        <a:t>0,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 Cyr"/>
                        </a:rPr>
                        <a:t>0,0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9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 Cyr"/>
                        </a:rPr>
                        <a:t>Прирост к предыдущему году, тыс. руб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 Cyr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 Cyr"/>
                        </a:rPr>
                        <a:t>-1211,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 Cyr"/>
                        </a:rPr>
                        <a:t>-101,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 Cyr"/>
                        </a:rPr>
                        <a:t>-200,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 Cyr"/>
                        </a:rPr>
                        <a:t>Прирост к предыдущему году, 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 Cyr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 Cyr"/>
                        </a:rPr>
                        <a:t>-74,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 Cyr"/>
                        </a:rPr>
                        <a:t>-24,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 Cyr"/>
                        </a:rPr>
                        <a:t>-65,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5ffff"/>
                </a:solidFill>
                <a:latin typeface="Tahoma"/>
              </a:rPr>
              <a:t>Объем расходов бюджета на реализацию долгосрочных целевых программ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179280" y="838080"/>
          <a:ext cx="8785440" cy="6019920"/>
        </p:xfrm>
        <a:graphic>
          <a:graphicData uri="http://schemas.openxmlformats.org/drawingml/2006/table">
            <a:tbl>
              <a:tblPr/>
              <a:tblGrid>
                <a:gridCol w="4565880"/>
                <a:gridCol w="1036440"/>
                <a:gridCol w="1104840"/>
                <a:gridCol w="1040040"/>
                <a:gridCol w="1038240"/>
              </a:tblGrid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Наименование долгосрочной целевой программы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201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201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201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201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"Развитие системы образования Тарского муниципального района до 2015 года"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7 866 658,61  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12 638 488,00  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8 049 252,00  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4 528 615,00  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"Развитие сельского хозяйства и регулирование рынков сельскохозяйственной продукции, сырья и продовольствия Тарского муниципального района до 2015 года"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     </a:t>
                      </a: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819 352,00  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    </a:t>
                      </a: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1 462 642,00  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1 151 474,00  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     </a:t>
                      </a: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672 821,00  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"Культура Тарского муниципального района на 2010-2015 годы"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2 042 000,00  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    </a:t>
                      </a: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2 566 000,00  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1 558 056,00  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2 371 000,00  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"Об охране окружающей среды в Тарском муниципальном районе Омской области (2010-2015 годы)"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     </a:t>
                      </a: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600 000,00  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       </a:t>
                      </a: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550 000,00  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       </a:t>
                      </a: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50 000,00  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       </a:t>
                      </a: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50 000,00  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"Развитие малого и среднего предпринимательства в Тарском муниципальном районе Омской области (2010-2013 годы)"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     </a:t>
                      </a: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500 000,00  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       </a:t>
                      </a: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510 000,00  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                  </a:t>
                      </a: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-    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                  </a:t>
                      </a: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-    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"Развитие физической культуры и спорта в Тарском муниципальном районе Омской области на 2011-2015 годы"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     </a:t>
                      </a: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900 000,00  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    </a:t>
                      </a: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1 000 000,00  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1 000 000,00  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1 000 000,00  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"Энергосбережение и повышение энергетической эффективности в Тарском муниципальном районе Омской области на 2010-2020 годы"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2 400 000,00  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    </a:t>
                      </a: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1 970 000,00  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2 692 541,77  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                  </a:t>
                      </a: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-    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"Модернизация и развитие автомобильных дорог Тарского муниципального района (2010-2015 годы)"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2 400 000,00  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    </a:t>
                      </a: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3 500 000,00  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     </a:t>
                      </a: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600 000,00  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                  </a:t>
                      </a: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-    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"Обеспечение безопасности дорожного движения в Тарском муниципальном районе на 2010-2014 годы"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     </a:t>
                      </a: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214 000,00  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        </a:t>
                      </a: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80 000,00  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       </a:t>
                      </a: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80 000,00  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                  </a:t>
                      </a: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-    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"Содействие занятости населения Тарского муниципального района Омской области на 2011-2015 годы"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     </a:t>
                      </a: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300 000,00  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       </a:t>
                      </a: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300 000,00  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                  </a:t>
                      </a: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-    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                  </a:t>
                      </a: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-    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"Доступная среда" на 2011-2015 годы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       </a:t>
                      </a: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30 000,00  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       </a:t>
                      </a: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105 000,00  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     </a:t>
                      </a: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109 000,00  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     </a:t>
                      </a: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109 000,00  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"Развитие жилищного строительства на территории Тарского муниципального района (2011-2015 годы)"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                  </a:t>
                      </a: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-    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       </a:t>
                      </a: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300 000,00  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     </a:t>
                      </a: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200 000,00  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     </a:t>
                      </a: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200 000,00  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"Обеспечение пожарной безопасности учреждений социальной сферы, находящихся в ведении Администрации и структурных подразделений Администрации Тарского муниципального района на 2012-2014 годы!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4 725 781,89  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    </a:t>
                      </a: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7 230 000,00  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1 990 000,00  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                  </a:t>
                      </a: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-    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"Старшее поколение" на 2012-2015 годы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     </a:t>
                      </a: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353 000,00  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       </a:t>
                      </a: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348 000,00  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     </a:t>
                      </a: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348 000,00  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     </a:t>
                      </a: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330 000,00  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"Развитие муниципальной службы Тарского муниципального района на 2012-2015 годы"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                  </a:t>
                      </a: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-    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        </a:t>
                      </a: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70 000,00  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       </a:t>
                      </a: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70 000,00  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       </a:t>
                      </a: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70 000,00  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0"/>
            <a:ext cx="88423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Основные характеристики бюджета Тарского муниципального района на 2012-2013 годы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395280" y="1422360"/>
          <a:ext cx="8497800" cy="5137200"/>
        </p:xfrm>
        <a:graphic>
          <a:graphicData uri="http://schemas.openxmlformats.org/drawingml/2006/table">
            <a:tbl>
              <a:tblPr/>
              <a:tblGrid>
                <a:gridCol w="3540240"/>
                <a:gridCol w="1774800"/>
                <a:gridCol w="1539720"/>
                <a:gridCol w="1643040"/>
              </a:tblGrid>
              <a:tr h="14310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2012 год, тыс.руб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2013 год, тыс. руб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Темп роста/ снижения к 2012 году, 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Доходы, всег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556067,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660793,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8,8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9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из них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налоговые и неналоговые доход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173363,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234616,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35,3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безвозмездные поступле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382703,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426176,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11,3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Расходы, всег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556067,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658193,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18,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в том числе за счет налоговых и неналоговых доходов, поступлений нецелевого характер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270035,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293097,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8,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Дефицит/профици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600,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Основные характеристики бюджета </a:t>
            </a:r>
            <a:br>
              <a:rPr sz="2800"/>
            </a:b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Тарского муниципального района </a:t>
            </a:r>
            <a:br>
              <a:rPr sz="2800"/>
            </a:b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на плановый период 2014 и 2015 годы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50920" y="1303200"/>
          <a:ext cx="8642160" cy="5554800"/>
        </p:xfrm>
        <a:graphic>
          <a:graphicData uri="http://schemas.openxmlformats.org/drawingml/2006/table">
            <a:tbl>
              <a:tblPr/>
              <a:tblGrid>
                <a:gridCol w="2816280"/>
                <a:gridCol w="1288800"/>
                <a:gridCol w="1584360"/>
                <a:gridCol w="1368360"/>
                <a:gridCol w="1584360"/>
              </a:tblGrid>
              <a:tr h="10674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2014 год, тыс. руб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Темп роста/ снижения к 2013 году, %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2015 год, тыс. руб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Темп роста/ снижения к 2014 году, 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Доходы, всего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694556,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5,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696737,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0,3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из них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налоговые и неналоговые доходы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235531,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0,3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246498,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4,6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безвозмездные поступлен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459024,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7,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450238,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-1,9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Расходы, всего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692006,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5,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696737,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0,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10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в том числе за счет налоговых и неналоговых доходов, поступлений нецелевого характер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289091,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-1,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270946,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-6,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 том числе условно-утвержденные расходы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17300,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34836,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Дефицит/профици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550,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1,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Структура доходов районного бюджета на 2013-2015 гг.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395280" y="1773360"/>
          <a:ext cx="8137440" cy="5021280"/>
        </p:xfrm>
        <a:graphic>
          <a:graphicData uri="http://schemas.openxmlformats.org/drawingml/2006/table">
            <a:tbl>
              <a:tblPr/>
              <a:tblGrid>
                <a:gridCol w="3633840"/>
                <a:gridCol w="1355760"/>
                <a:gridCol w="1355760"/>
                <a:gridCol w="1792080"/>
              </a:tblGrid>
              <a:tr h="368280"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Наименовани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Сумма тыс. руб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2013 г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2014 г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2015 г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Доходы, всег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660793,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694556,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696737,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Собственные доход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234616,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235531,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246498,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в том числе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налоговы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211990,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213147,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224596,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неналоговы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22626,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22384,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21902,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Безвозмездные поступле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426176,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459024,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450238,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в том числе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дотаци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61081,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73410,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59284,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субсиди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110547,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117677,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119163,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субвенци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253810,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267188,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271042,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иные межбюджетные трансферт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737,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748,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748,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5ffff"/>
                </a:solidFill>
                <a:latin typeface="Tahoma"/>
              </a:rPr>
              <a:t>Расходы бюджета Тарского муниципального района</a:t>
            </a:r>
            <a:br>
              <a:rPr sz="2400"/>
            </a:br>
            <a:r>
              <a:rPr b="0" lang="en-US" sz="2400" spc="-1" strike="noStrike">
                <a:solidFill>
                  <a:srgbClr val="e5ffff"/>
                </a:solidFill>
                <a:latin typeface="Tahoma"/>
              </a:rPr>
              <a:t> на 2013-2015 годы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968400" y="1773360"/>
          <a:ext cx="7132680" cy="42764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68400" y="1773360"/>
                    <a:ext cx="7132680" cy="427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Структура расходов на содержание органов местного самоуправления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457200" y="1981080"/>
          <a:ext cx="8229240" cy="4114440"/>
        </p:xfrm>
        <a:graphic>
          <a:graphicData uri="http://schemas.openxmlformats.org/drawingml/2006/table">
            <a:tbl>
              <a:tblPr/>
              <a:tblGrid>
                <a:gridCol w="2333520"/>
                <a:gridCol w="1964880"/>
                <a:gridCol w="1965600"/>
                <a:gridCol w="1965240"/>
              </a:tblGrid>
              <a:tr h="10134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Наименование подраздел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Сумма на 2013 год, всего тыс. руб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Сумма на 2014 год, всего тыс. руб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Сумма на 2015 год, всего тыс. руб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Общегосударственные вопрос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34854,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35377,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34711,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5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Национальная экономик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3363,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3424,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3424,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25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Образовани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4413,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4508,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4508,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2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Культура, кинематограф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1704,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1738,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1689,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25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Всего расходо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44335,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45048,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44333,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Структура расходов районного бюджета в разрезе разделов классификации бюджетов на 2012-2013 гг. (тыс. руб.)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457200" y="1981080"/>
          <a:ext cx="8507520" cy="4327560"/>
        </p:xfrm>
        <a:graphic>
          <a:graphicData uri="http://schemas.openxmlformats.org/drawingml/2006/table">
            <a:tbl>
              <a:tblPr/>
              <a:tblGrid>
                <a:gridCol w="5362560"/>
                <a:gridCol w="1049400"/>
                <a:gridCol w="1046160"/>
                <a:gridCol w="1049400"/>
              </a:tblGrid>
              <a:tr h="749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2013 г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2014г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2015 г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2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Общегосударственные расходы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47999</a:t>
                      </a: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,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45034,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44206,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3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Национальная экономик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213</a:t>
                      </a: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,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5341,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4262,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3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Жилищно-коммунальное хозяйство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550,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50,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50,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56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Образовани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6090,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490510,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483796,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4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Культура, кинематограф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676,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56655,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53679,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2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Социальная политик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28556,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29366,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26171,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3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Физическая культура и спор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1500,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1000,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1000,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47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Обслуживание государственного и муниципального долг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508,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277,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3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Межбюджетные трансферты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44099,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46470,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48733,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5ffff"/>
                </a:solidFill>
                <a:latin typeface="Tahoma"/>
              </a:rPr>
              <a:t>Расходы бюджета Тарского муниципального района на 2012-2013 годы за счет налоговых и неналоговых доходов и поступлений нецелевого характера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179280" y="2060640"/>
          <a:ext cx="4316400" cy="38894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9280" y="2060640"/>
                    <a:ext cx="4316400" cy="388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0" name=""/>
          <p:cNvGraphicFramePr/>
          <p:nvPr/>
        </p:nvGraphicFramePr>
        <p:xfrm>
          <a:off x="4648320" y="2089080"/>
          <a:ext cx="4038480" cy="389880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648320" y="2089080"/>
                    <a:ext cx="4038480" cy="389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Общегосударственные вопросы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250920" y="1052640"/>
          <a:ext cx="8569080" cy="1942920"/>
        </p:xfrm>
        <a:graphic>
          <a:graphicData uri="http://schemas.openxmlformats.org/drawingml/2006/table">
            <a:tbl>
              <a:tblPr/>
              <a:tblGrid>
                <a:gridCol w="4392360"/>
                <a:gridCol w="946440"/>
                <a:gridCol w="1077840"/>
                <a:gridCol w="1077840"/>
                <a:gridCol w="1074600"/>
              </a:tblGrid>
              <a:tr h="4302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 Cyr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 Cyr"/>
                        </a:rPr>
                        <a:t>2012 г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 Cyr"/>
                        </a:rPr>
                        <a:t>2013 г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 Cyr"/>
                        </a:rPr>
                        <a:t>2014 г.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 Cyr"/>
                        </a:rPr>
                        <a:t>2015 г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 Cyr"/>
                        </a:rPr>
                        <a:t>Общегосударственные вопросы (тыс. руб.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 Cyr"/>
                        </a:rPr>
                        <a:t>43214,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 Cyr"/>
                        </a:rPr>
                        <a:t>47451,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 Cyr"/>
                        </a:rPr>
                        <a:t>44481,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 Cyr"/>
                        </a:rPr>
                        <a:t>43653,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80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 Cyr"/>
                        </a:rPr>
                        <a:t>Доля в общем объеме расходов, 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 Cyr"/>
                        </a:rPr>
                        <a:t>1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16,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 Cyr"/>
                        </a:rPr>
                        <a:t>15,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 Cyr"/>
                        </a:rPr>
                        <a:t>16,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 Cyr"/>
                        </a:rPr>
                        <a:t>Прирост к предыдущему году, тыс. руб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 Cyr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4237,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 Cyr"/>
                        </a:rPr>
                        <a:t>-2969,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 Cyr"/>
                        </a:rPr>
                        <a:t>-828,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 Cyr"/>
                        </a:rPr>
                        <a:t>Прирост к предыдущему году, 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 Cyr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9,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 Cyr"/>
                        </a:rPr>
                        <a:t>-6,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 Cyr"/>
                        </a:rPr>
                        <a:t>-1,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4" name=""/>
          <p:cNvGraphicFramePr/>
          <p:nvPr/>
        </p:nvGraphicFramePr>
        <p:xfrm>
          <a:off x="0" y="3645000"/>
          <a:ext cx="9144000" cy="2958840"/>
        </p:xfrm>
        <a:graphic>
          <a:graphicData uri="http://schemas.openxmlformats.org/drawingml/2006/table">
            <a:tbl>
              <a:tblPr/>
              <a:tblGrid>
                <a:gridCol w="6948360"/>
                <a:gridCol w="936720"/>
                <a:gridCol w="1258920"/>
              </a:tblGrid>
              <a:tr h="4590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2013 г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% к общему объему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Общегосударственные вопросы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47451,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1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4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Функционирование высшего должностного лица субъекта РФ и муниципального образовани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1455,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,0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Функционирование законодательных (представительных) органов государственной власти и представительных органов муниципальных образований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534,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1,1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Функционирование Правительства РФ, высших исполнительных органов государственной власти субъектов РФ, местных администраций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18803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39,6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Обеспечение деятельности финансовых, налоговых и таможенных органов и органов финансово-бюджетного надзор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9243,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,4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Резервные фонды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2030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,2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Другие общегосударственные вопросы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15384,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,4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5T13:49:37Z</dcterms:created>
  <dc:creator>НР</dc:creator>
  <dc:description/>
  <dc:language>en-US</dc:language>
  <cp:lastModifiedBy>USER</cp:lastModifiedBy>
  <dcterms:modified xsi:type="dcterms:W3CDTF">2012-12-26T03:43:19Z</dcterms:modified>
  <cp:revision>43</cp:revision>
  <dc:subject/>
  <dc:title>Тарский муниципальный район</dc:title>
</cp:coreProperties>
</file>